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3.gif" ContentType="image/gif"/>
  <Override PartName="/ppt/media/image22.gif" ContentType="image/gif"/>
  <Override PartName="/ppt/media/image18.jpeg" ContentType="image/jpeg"/>
  <Override PartName="/ppt/media/image3.gif" ContentType="image/gif"/>
  <Override PartName="/ppt/media/image13.jpeg" ContentType="image/jpeg"/>
  <Override PartName="/ppt/media/image20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4.jpeg" ContentType="image/jpeg"/>
  <Override PartName="/ppt/media/image21.gif" ContentType="image/gif"/>
  <Override PartName="/ppt/media/image19.gif" ContentType="image/gif"/>
  <Override PartName="/ppt/media/image1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99F3-2A0B-4EEC-BAB3-1E3702585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5913-D0C0-4C01-BFDF-6923FDCB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2393-DB4F-4326-ACB2-279DEBB0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5E14-1A95-43CD-B672-4BDF6642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E610-DA6E-477E-A4BD-EAD9AF01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6D3E-B40C-498F-9693-C4EA49D5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F707-5C7F-4B31-871C-2901DE0C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32B7-FD3F-4661-9CB8-5135B977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AA30-DA06-449D-8025-75324589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E138-F906-400C-A771-2CAD1F66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3DC1-A8FF-4045-9477-F40B235C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4007-E7F4-4764-AA62-121FC4CC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7DA6-1FF5-4D6C-B248-FDCADF75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6049-AEA5-4C40-8894-025E9FDB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D0DB-8B56-4643-87F0-0086B61C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6BD6-EA42-4A3D-AC14-58B8A41F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B73D-EBBB-4C91-A62E-4D7961A8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0AAC2-7D1D-4F8A-9FD0-AA090607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152AA-9C2D-4ED2-A3B4-A3546BE6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2E753-D283-4B1F-B65C-C48788D7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6A4E0-3C04-488C-A6B2-E25EEE78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A2117-061A-470B-A6C7-101FF67A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F07B-D8CB-44E4-A822-414A5E5D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7341A-B72C-4453-A1CB-3A8B9F91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21713-20FC-406C-9BEA-4940B972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E85D2-7B0F-41B0-9925-7FC093C1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0B0C3-3C12-4937-9EA7-DF5509A3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CBDBE-98FD-4B9D-AA98-44101B05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FDDFE-7865-4A94-A1C0-44047D21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166C8-0A0D-429F-B3D9-D5B38720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0FB5-6673-48FA-8DA1-C51E7098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EB1F-8A7B-4BAD-95A9-6E09A217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2990-A161-47EB-B549-6F8E7618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F44C-CFAD-47FE-A905-35DB9370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DAF9-7A0B-4F4A-98B9-9A0E8D0A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440A-0328-4C9B-B611-AFB8BF57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3C8F-4E50-496D-B976-A7C9C0DFFC85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3E54-8B52-4ACF-9071-8625BDFF9E43}" type="slidenum">
              <a:rPr b="0" lang="fr-FR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8266-A6F4-4A86-B97B-6AA752E53332}" type="slidenum">
              <a:rPr b="0" lang="fr-FR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2.gif"/><Relationship Id="rId9" Type="http://schemas.openxmlformats.org/officeDocument/2006/relationships/image" Target="../media/image23.gif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2987640" y="2492280"/>
            <a:ext cx="3019320" cy="7146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908000" y="3933720"/>
            <a:ext cx="698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Pierrot des Vosges vous ouvre les portes de ses rêv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Que ce site alimente votre pensée sans vouloir la diriger !!!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9640" y="6381720"/>
            <a:ext cx="2808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cc00"/>
                </a:solidFill>
                <a:latin typeface="Arial"/>
                <a:ea typeface="Arial"/>
              </a:rPr>
              <a:t>Ce site n’est pas commercial…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2152800" cy="16192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6516720" y="486900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25440" y="587700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cc"/>
                </a:solidFill>
                <a:latin typeface="Arial"/>
              </a:rPr>
              <a:t>http://ARCIEL88.f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4"/>
          <a:stretch/>
        </p:blipFill>
        <p:spPr>
          <a:xfrm>
            <a:off x="8101080" y="692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5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264193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3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6350040" cy="56642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1476360" y="5013360"/>
            <a:ext cx="1047600" cy="10857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627280" y="4797360"/>
            <a:ext cx="410544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Larmes de peines, larmes de joies…</a:t>
            </a:r>
            <a:br>
              <a:rPr sz="1400"/>
            </a:b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la vie est reine du chaud et froid !</a:t>
            </a:r>
            <a:br>
              <a:rPr sz="1400"/>
            </a:b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N’empoisonne pas ton avenir en regardant </a:t>
            </a:r>
            <a:br>
              <a:rPr sz="1400"/>
            </a:b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la route du présent au rétroviseur du passé ! </a:t>
            </a:r>
            <a:br>
              <a:rPr sz="1400"/>
            </a:b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Pierfetz ©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« CARPE DIEM 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3276720" y="4724280"/>
            <a:ext cx="2571480" cy="2890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3492360" y="5300640"/>
            <a:ext cx="301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cc"/>
                </a:solidFill>
                <a:latin typeface="Arial"/>
              </a:rPr>
              <a:t>http://ARCIEL88.f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50920" y="836640"/>
            <a:ext cx="570384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Nous sommes aujourd’h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le </a:t>
            </a:r>
            <a:fld id="{96A25A57-A696-4DD8-8770-74F505E6DF61}" type="datetime2">
              <a:rPr b="1" i="1" lang="fr-F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jeudi 30 juillet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Il est à présent </a:t>
            </a:r>
            <a:fld id="{D597DBAA-C168-40DB-9E9A-A798102B08AD}" type="datetime10">
              <a:rPr b="1" i="1" lang="fr-F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14:35</a:t>
            </a:fld>
            <a:r>
              <a:rPr b="1" i="1" lang="fr-F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h pré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Rendez-moi visite en choisissant votre rubrique dans ma page</a:t>
            </a:r>
            <a:br>
              <a:rPr sz="2400"/>
            </a:br>
            <a:r>
              <a:rPr b="1" i="1" lang="fr-F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Menu général…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4140360" y="3429000"/>
            <a:ext cx="115236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179280" y="5516640"/>
            <a:ext cx="584280" cy="98568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5219640" y="6419880"/>
            <a:ext cx="943200" cy="43812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6732720" y="1484280"/>
            <a:ext cx="725400" cy="102384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5"/>
          <a:stretch/>
        </p:blipFill>
        <p:spPr>
          <a:xfrm>
            <a:off x="971640" y="1052640"/>
            <a:ext cx="276120" cy="259056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6"/>
          <a:stretch/>
        </p:blipFill>
        <p:spPr>
          <a:xfrm>
            <a:off x="2556000" y="1844640"/>
            <a:ext cx="276120" cy="259092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7"/>
          <a:stretch/>
        </p:blipFill>
        <p:spPr>
          <a:xfrm>
            <a:off x="8867880" y="3645000"/>
            <a:ext cx="276120" cy="25905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8"/>
          <a:stretch/>
        </p:blipFill>
        <p:spPr>
          <a:xfrm>
            <a:off x="8244000" y="1268280"/>
            <a:ext cx="276120" cy="25909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9"/>
          <a:stretch/>
        </p:blipFill>
        <p:spPr>
          <a:xfrm>
            <a:off x="7667640" y="6143760"/>
            <a:ext cx="1476360" cy="7142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3255840" y="4602240"/>
            <a:ext cx="527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Bonne journée…Bonne soirée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290760" y="5433840"/>
            <a:ext cx="473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ARCIEL88: Un Espace de Liberté et d’Apesanteur dans l’Océan du Rê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63480" y="13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900000" y="5229360"/>
            <a:ext cx="327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  <a:ea typeface="Arial"/>
              </a:rPr>
              <a:t>Au couchant d’un beau jour,</a:t>
            </a:r>
            <a:br>
              <a:rPr sz="1800"/>
            </a:br>
            <a:r>
              <a:rPr b="1" lang="fr-CA" sz="1800" spc="-1" strike="noStrike">
                <a:solidFill>
                  <a:srgbClr val="ffff00"/>
                </a:solidFill>
                <a:latin typeface="Arial"/>
                <a:ea typeface="Arial"/>
              </a:rPr>
              <a:t>J’aimerais te pein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  <a:ea typeface="Arial"/>
              </a:rPr>
              <a:t>Un automne flamboyan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179280" y="522936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5050"/>
                </a:solidFill>
                <a:latin typeface="Arial"/>
              </a:rPr>
              <a:t>Si j’étais capable de tenir tes problèmes dans mes mains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5050"/>
                </a:solidFill>
                <a:latin typeface="Arial"/>
              </a:rPr>
              <a:t>Je les jetterais au vent de l’océ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08000" y="5877000"/>
            <a:ext cx="40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cc0099"/>
                </a:solidFill>
                <a:latin typeface="Arial"/>
              </a:rPr>
              <a:t>Mais tout ceci m’est impossible </a:t>
            </a:r>
            <a:br>
              <a:rPr sz="1800"/>
            </a:br>
            <a:r>
              <a:rPr b="1" lang="fr-CA" sz="1800" spc="-1" strike="noStrike">
                <a:solidFill>
                  <a:srgbClr val="cc0099"/>
                </a:solidFill>
                <a:latin typeface="Arial"/>
              </a:rPr>
              <a:t>à réalis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179280" y="486900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Je ne peu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i bâtir des montagn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i attraper un arc-en-ciel.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i changer ton environnement ou tes désirs d’infini!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79280" y="5661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ar cont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Laisse-moi être ce que Je sais faire de mieu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179280" y="5805360"/>
            <a:ext cx="7667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 Ami invisibl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Qui pensera toujours à to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403280" y="4869000"/>
            <a:ext cx="7489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onotype Corsiva"/>
              </a:rPr>
              <a:t>L’Amitié est toujours là…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Monotype Corsiva"/>
              </a:rPr>
              <a:t>Quand la Paix la transporte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3203640" y="0"/>
            <a:ext cx="2305080" cy="1577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24000" y="4941720"/>
            <a:ext cx="828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00"/>
                </a:solidFill>
                <a:latin typeface="Comic Sans MS"/>
              </a:rPr>
              <a:t>Si parfois les larmes te cachent les étoiles,</a:t>
            </a:r>
            <a:br>
              <a:rPr sz="1800"/>
            </a:br>
            <a:r>
              <a:rPr b="0" lang="fr-CA" sz="1800" spc="-1" strike="noStrike">
                <a:solidFill>
                  <a:srgbClr val="ffff00"/>
                </a:solidFill>
                <a:latin typeface="Comic Sans MS"/>
              </a:rPr>
              <a:t>Vas de l’avant et mets les voiles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Arial"/>
              </a:rPr>
              <a:t>Larmes de peine,larmes de joi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Arial"/>
              </a:rPr>
              <a:t>Instants déserts, rose séché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Arial"/>
              </a:rPr>
              <a:t>La cendre au vent déjà rougeoi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Arial"/>
              </a:rPr>
              <a:t>Rosée d’amour,tige dressée. </a:t>
            </a:r>
            <a:r>
              <a:rPr b="0" i="1" lang="fr-FR" sz="1800" spc="-1" strike="noStrike">
                <a:solidFill>
                  <a:srgbClr val="ffff00"/>
                </a:solidFill>
                <a:latin typeface="Arial"/>
              </a:rPr>
              <a:t>P.F.</a:t>
            </a:r>
            <a:r>
              <a:rPr b="1" i="1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8:20:45Z</dcterms:created>
  <dc:creator>JACPRO</dc:creator>
  <dc:description/>
  <dc:language>en-US</dc:language>
  <cp:lastModifiedBy>PierFetz</cp:lastModifiedBy>
  <dcterms:modified xsi:type="dcterms:W3CDTF">2008-03-09T15:48:53Z</dcterms:modified>
  <cp:revision>68</cp:revision>
  <dc:subject/>
  <dc:title>Diapositive 1</dc:title>
</cp:coreProperties>
</file>