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3.gif" ContentType="image/gif"/>
  <Override PartName="/ppt/media/image22.gif" ContentType="image/gif"/>
  <Override PartName="/ppt/media/image18.jpeg" ContentType="image/jpeg"/>
  <Override PartName="/ppt/media/image3.gif" ContentType="image/gif"/>
  <Override PartName="/ppt/media/image13.jpeg" ContentType="image/jpeg"/>
  <Override PartName="/ppt/media/image20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21.gif" ContentType="image/gif"/>
  <Override PartName="/ppt/media/image19.gif" ContentType="image/gif"/>
  <Override PartName="/ppt/media/image1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AC5-B6A8-4CCD-B901-08901189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423-CF9B-41A3-BC2E-02E71274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E5B-825C-40DC-9F3B-ED31AADB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0BB-9D98-4003-98E2-6ED343AE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60B1-FE0C-4496-A937-5B949292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0F8-9F18-4EEF-8F76-145CF903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6AE7-C5B3-4C3A-AE21-0B2E405C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2965-3120-4CC1-BED2-DC394AD1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655F-18C2-4A85-AFC4-2015A21B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F352-4ABE-43D8-B2C5-1641C1BD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EF11-F2D3-4F6D-BBF8-8A208558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A71-3137-455C-B582-3B2B0A47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A43E-67DD-471A-998D-BB79A71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2C8E-8808-463C-B8C4-FDCC4C2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2E85-0370-40F1-B2E3-91EA4D09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BB10-F76A-44A5-A048-F96321E1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5E0E-385D-49AF-AB47-45322961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3601-1D3B-4405-BF8E-BA0C169D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1F3D-8D2C-4AB1-A38B-98D3B53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399F-CC01-4E2D-B96A-2F65093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0D55-7570-474F-94E8-18734AE9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143A-6DC5-4F8B-828A-F8BDFF2A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98F-9EDB-4C22-B801-C42E8015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F402-0300-4FD3-AECB-13ED4CFF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07D9-19C9-4488-8AAD-CDC39001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8A66-F8C3-4A85-9F5E-5AAE537E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2EB6-5DB5-4140-8D60-6E44C577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45A7-654E-4D64-A9E7-7CE46295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E172-A9E0-450B-B356-FE35E8BA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394A-5A60-4219-8D03-12F39E53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3E7-03BC-41CF-B8A0-5FE891F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1DA-998E-42E9-A066-9E3C30D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2F6-DA42-4B9D-BBF2-846656D1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3FD-2BED-4AA5-9088-B4C4C07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C25-F0C6-4FC3-B446-07121C2C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DAC-6573-480C-8883-04EA068A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52A-49EF-4FFE-AF3E-BB444F68D825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64F8-F63E-446A-ABF9-260A10C9361C}" type="slidenum"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4CA-B71C-419D-BBE1-AE9A8DD607DE}" type="slidenum"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3019320" cy="7146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08000" y="3933720"/>
            <a:ext cx="69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Pierrot des Vosges vous ouvre les portes de ses rêv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Que ce site alimente votre pensée sans vouloir la diriger !!!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638172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cc00"/>
                </a:solidFill>
                <a:latin typeface="Arial"/>
                <a:ea typeface="Arial"/>
              </a:rPr>
              <a:t>Ce site n’est pas commercial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2152800" cy="1619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25440" y="58770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cc"/>
                </a:solidFill>
                <a:latin typeface="Arial"/>
              </a:rPr>
              <a:t>http://ARCIEL88.f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101080" y="692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64193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350040" cy="5664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476360" y="5013360"/>
            <a:ext cx="1047600" cy="1085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627280" y="4797360"/>
            <a:ext cx="41054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armes de peines, larmes de joies…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a vie est reine du chaud et froid !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’empoisonne pas ton avenir en regardant 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a route du présent au rétroviseur du passé ! 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ierfetz ©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« CARPE DIEM 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2571480" cy="289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492360" y="5300640"/>
            <a:ext cx="30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cc"/>
                </a:solidFill>
                <a:latin typeface="Arial"/>
              </a:rPr>
              <a:t>http://ARCIEL88.f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836640"/>
            <a:ext cx="57038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Nous sommes aujourd’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le </a:t>
            </a:r>
            <a:fld id="{117E06FF-2C58-40BA-B7FD-DE9DA295E3D9}" type="datetime2"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vendredi 31 juillet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l est à présent </a:t>
            </a:r>
            <a:fld id="{2EBFDCA9-1687-4252-86B6-8AE6A750D37E}" type="datetime10"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2:57</a:t>
            </a:fld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h pré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ndez-moi visite en choisissant votre rubrique dans ma page</a:t>
            </a:r>
            <a:br>
              <a:rPr sz="2400"/>
            </a:b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Menu général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115236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79280" y="5516640"/>
            <a:ext cx="584280" cy="985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219640" y="6419880"/>
            <a:ext cx="943200" cy="438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6732720" y="1484280"/>
            <a:ext cx="725400" cy="10238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971640" y="1052640"/>
            <a:ext cx="276120" cy="2590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2556000" y="1844640"/>
            <a:ext cx="276120" cy="25909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8867880" y="3645000"/>
            <a:ext cx="276120" cy="25905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8244000" y="1268280"/>
            <a:ext cx="276120" cy="2590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7667640" y="6143760"/>
            <a:ext cx="1476360" cy="7142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255840" y="460224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Bonne journée…Bonne soiré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90760" y="5433840"/>
            <a:ext cx="473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ARCIEL88: Un Espace de Liberté et d’Apesanteur dans l’Océan du Rê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348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900000" y="5229360"/>
            <a:ext cx="32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  <a:ea typeface="Arial"/>
              </a:rPr>
              <a:t>Au couchant d’un beau jour,</a:t>
            </a:r>
            <a:br>
              <a:rPr sz="1800"/>
            </a:br>
            <a:r>
              <a:rPr b="1" lang="fr-CA" sz="1800" spc="-1" strike="noStrike">
                <a:solidFill>
                  <a:srgbClr val="ffff00"/>
                </a:solidFill>
                <a:latin typeface="Arial"/>
                <a:ea typeface="Arial"/>
              </a:rPr>
              <a:t>J’aimerais te pei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  <a:ea typeface="Arial"/>
              </a:rPr>
              <a:t>Un automne flamboya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79280" y="5229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5050"/>
                </a:solidFill>
                <a:latin typeface="Arial"/>
              </a:rPr>
              <a:t>Si j’étais capable de tenir tes problèmes dans mes main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5050"/>
                </a:solidFill>
                <a:latin typeface="Arial"/>
              </a:rPr>
              <a:t>Je les jetterais au vent de l’océ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08000" y="587700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cc0099"/>
                </a:solidFill>
                <a:latin typeface="Arial"/>
              </a:rPr>
              <a:t>Mais tout ceci m’est impossible </a:t>
            </a:r>
            <a:br>
              <a:rPr sz="1800"/>
            </a:br>
            <a:r>
              <a:rPr b="1" lang="fr-CA" sz="1800" spc="-1" strike="noStrike">
                <a:solidFill>
                  <a:srgbClr val="cc0099"/>
                </a:solidFill>
                <a:latin typeface="Arial"/>
              </a:rPr>
              <a:t>à réalis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79280" y="4869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e ne peu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 bâtir des montag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 attraper un arc-en-ciel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 changer ton environnement ou tes désirs d’infini!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79280" y="5661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ar cont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Laisse-moi être ce que Je sais faire de mie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9280" y="5805360"/>
            <a:ext cx="766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 Ami invisi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i pensera toujours à t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403280" y="4869000"/>
            <a:ext cx="748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L’Amitié est toujours là…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Quand la Paix la transport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230508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24000" y="494172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Comic Sans MS"/>
              </a:rPr>
              <a:t>Si parfois les larmes te cachent les étoiles,</a:t>
            </a:r>
            <a:br>
              <a:rPr sz="1800"/>
            </a:br>
            <a:r>
              <a:rPr b="0" lang="fr-CA" sz="1800" spc="-1" strike="noStrike">
                <a:solidFill>
                  <a:srgbClr val="ffff00"/>
                </a:solidFill>
                <a:latin typeface="Comic Sans MS"/>
              </a:rPr>
              <a:t>Vas de l’avant et mets les voiles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Larmes de peine,larmes de joi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Instants déserts, rose séch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La cendre au vent déjà rougeoi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Rosée d’amour,tige dressée. </a:t>
            </a: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P.F.</a:t>
            </a: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8:20:45Z</dcterms:created>
  <dc:creator>JACPRO</dc:creator>
  <dc:description/>
  <dc:language>en-US</dc:language>
  <cp:lastModifiedBy>PierFetz</cp:lastModifiedBy>
  <dcterms:modified xsi:type="dcterms:W3CDTF">2008-03-09T15:48:53Z</dcterms:modified>
  <cp:revision>68</cp:revision>
  <dc:subject/>
  <dc:title>Diapositive 1</dc:title>
</cp:coreProperties>
</file>