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427-AA68-48D3-A026-48CB0DC6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8041-ACCC-4556-AE01-3C9D13D9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95E-E631-4109-9AAD-FDBDDF3B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3FA-097B-4BD6-8776-8FAD786E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0A4-F3E9-4AD9-933A-F741EEB2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FB2-B08E-4B6D-AF1C-F27245ED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9CB-AF61-4993-A6BF-9BAE2E6E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A13-6101-4022-BF82-C1DF2E5F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425-6C81-47BA-AA79-055507AB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D00-A259-4DC4-AA3A-DBFE706E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3D8-CFFF-453D-AE47-5A005852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715-B0AA-404F-86E0-534C67E6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5FD2-61F6-491B-8048-0B0BAB355D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219320"/>
            <a:ext cx="568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00"/>
                </a:solidFill>
                <a:latin typeface="Times New Roman"/>
              </a:rPr>
              <a:t>Y’a quelque chose qui t’ennuie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800" spc="-1" strike="noStrike">
                <a:solidFill>
                  <a:srgbClr val="ff3300"/>
                </a:solidFill>
                <a:latin typeface="Times New Roman"/>
              </a:rPr>
              <a:t>Regarde autour de toi et apprécie tout ce que tu as pu avoir dans cette vie transitoire.....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79640" y="620640"/>
            <a:ext cx="556272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Plains toi moins et apprécie plus les choses autour de toi.</a:t>
            </a:r>
            <a:br>
              <a:rPr sz="4400"/>
            </a:b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*</a:t>
            </a:r>
            <a:br>
              <a:rPr sz="4400"/>
            </a:b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Fais de ton mi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Pour atténu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Les différenc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6461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00"/>
                </a:solidFill>
                <a:latin typeface="Arial"/>
              </a:rPr>
              <a:t>Fais suivre ce mail ou supprime le selon ta consc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xit" presetID="40">
                                  <p:stCondLst>
                                    <p:cond delay="1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3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738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4120" y="0"/>
            <a:ext cx="380988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Ca t’ennuie d’étudi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4120"/>
            <a:ext cx="335268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3300"/>
                </a:solidFill>
                <a:latin typeface="Times New Roman"/>
              </a:rPr>
              <a:t>Eux non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373560" y="2781360"/>
            <a:ext cx="5770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38480" y="2533680"/>
            <a:ext cx="5105520" cy="432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33920" y="0"/>
            <a:ext cx="495288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Tu détestes les legum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52280" y="5715000"/>
            <a:ext cx="426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3300"/>
                </a:solidFill>
                <a:latin typeface="Times New Roman"/>
              </a:rPr>
              <a:t>Ils les adorent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08400" cy="579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61040" y="1676520"/>
            <a:ext cx="2982960" cy="5181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62520" y="0"/>
            <a:ext cx="49528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3300"/>
                </a:solidFill>
                <a:latin typeface="Times New Roman"/>
              </a:rPr>
              <a:t>Tu es au rég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01992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3300"/>
                </a:solidFill>
                <a:latin typeface="Times New Roman"/>
              </a:rPr>
              <a:t>Ils meurent de faim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5562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4120" y="1676520"/>
            <a:ext cx="3809880" cy="5181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0"/>
            <a:ext cx="51814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3300"/>
                </a:solidFill>
                <a:latin typeface="Times New Roman"/>
              </a:rPr>
              <a:t>La super protection de tes parents t’ennu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791320"/>
            <a:ext cx="48006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Ils n’ont pas de parent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19112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230800" y="1523880"/>
            <a:ext cx="3913200" cy="5334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43200" y="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3300"/>
                </a:solidFill>
                <a:latin typeface="Times New Roman"/>
              </a:rPr>
              <a:t>Ca t’ennuie d’avoir toujours les memes jeu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5388120"/>
            <a:ext cx="35053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Ils n’ont pas le choix 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3581280" cy="3733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34120" y="2457360"/>
            <a:ext cx="3809880" cy="4400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19520" y="333360"/>
            <a:ext cx="63244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On t’a acheté des “Adidas” et tu voulais des “Nike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388120"/>
            <a:ext cx="4572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Ils n’ont que ce modele 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94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267080" y="3359160"/>
            <a:ext cx="4953240" cy="3498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81480" y="0"/>
            <a:ext cx="3733920" cy="24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Ca t’ennuie quand on t’envoie te coucher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581360"/>
            <a:ext cx="36576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Eux, ne voudraient jamais se réveiller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9320" y="1371600"/>
            <a:ext cx="7010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3300"/>
                </a:solidFill>
                <a:latin typeface="Times New Roman"/>
              </a:rPr>
              <a:t>Apres cela si tu as toujours quelque chose qui t’ennuie…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3:26:55Z</dcterms:created>
  <dc:creator>José Neto</dc:creator>
  <dc:description/>
  <dc:language>en-US</dc:language>
  <cp:lastModifiedBy>Uranus</cp:lastModifiedBy>
  <dcterms:modified xsi:type="dcterms:W3CDTF">2006-04-04T09:07:12Z</dcterms:modified>
  <cp:revision>17</cp:revision>
  <dc:subject>Diferenças</dc:subject>
  <dc:title>Estás Chateado?</dc:title>
</cp:coreProperties>
</file>