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7C7B-3A95-4503-A689-CBFD3CAA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1DB-6259-465A-8C6B-3DBFFFA4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FFF-0EF4-4D45-8374-EFE0B64E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720B-EDF8-42E2-9010-9DB4F949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815C-FE7C-4DA9-BE52-7DE27324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80A5-C78C-44F8-9809-9D6C1716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EC4-191B-493C-A826-9DAE4534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A18-3FD0-4327-96C7-A47B823D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59D0-BDD6-478F-BB65-5A9CDBBE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067A-5815-4B21-8277-DCD08B54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52C-ABC2-4ED5-BCE4-A6ADD468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6438-C216-4E03-8C6B-33C33734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8C9B-7FAD-4F8D-9B70-C632FCA92D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219320"/>
            <a:ext cx="568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600" spc="-1" strike="noStrike">
                <a:solidFill>
                  <a:srgbClr val="ffff00"/>
                </a:solidFill>
                <a:latin typeface="Times New Roman"/>
              </a:rPr>
              <a:t>Y’a quelque chose qui t’ennuie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800" spc="-1" strike="noStrike">
                <a:solidFill>
                  <a:srgbClr val="ff3300"/>
                </a:solidFill>
                <a:latin typeface="Times New Roman"/>
              </a:rPr>
              <a:t>Regarde autour de toi et apprécie tout ce que tu as pu avoir dans cette vie transitoire.....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79640" y="620640"/>
            <a:ext cx="556272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Plains toi moins et apprécie plus les choses autour de toi.</a:t>
            </a:r>
            <a:br>
              <a:rPr sz="4400"/>
            </a:b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*</a:t>
            </a:r>
            <a:br>
              <a:rPr sz="4400"/>
            </a:b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Fais de ton mie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Pour atténu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Les différenc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6461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00"/>
                </a:solidFill>
                <a:latin typeface="Arial"/>
              </a:rPr>
              <a:t>Fais suivre ce mail ou supprime le selon ta consci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xit" presetID="40">
                                  <p:stCondLst>
                                    <p:cond delay="15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3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3738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4120" y="0"/>
            <a:ext cx="380988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Ca t’ennuie d’étudi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34120"/>
            <a:ext cx="335268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800" spc="-1" strike="noStrike">
                <a:solidFill>
                  <a:srgbClr val="ff3300"/>
                </a:solidFill>
                <a:latin typeface="Times New Roman"/>
              </a:rPr>
              <a:t>Eux non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373560" y="2781360"/>
            <a:ext cx="5770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38480" y="2533680"/>
            <a:ext cx="5105520" cy="432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33920" y="0"/>
            <a:ext cx="495288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Tu détestes les legum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52280" y="5715000"/>
            <a:ext cx="426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3300"/>
                </a:solidFill>
                <a:latin typeface="Times New Roman"/>
              </a:rPr>
              <a:t>Ils les adorent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08400" cy="5791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61040" y="1676520"/>
            <a:ext cx="2982960" cy="5181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62520" y="0"/>
            <a:ext cx="495288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800" spc="-1" strike="noStrike">
                <a:solidFill>
                  <a:srgbClr val="ff3300"/>
                </a:solidFill>
                <a:latin typeface="Times New Roman"/>
              </a:rPr>
              <a:t>Tu es au rég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019920"/>
            <a:ext cx="6400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800" spc="-1" strike="noStrike">
                <a:solidFill>
                  <a:srgbClr val="ff3300"/>
                </a:solidFill>
                <a:latin typeface="Times New Roman"/>
              </a:rPr>
              <a:t>Ils meurent de faim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5562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4120" y="1676520"/>
            <a:ext cx="3809880" cy="5181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62520" y="0"/>
            <a:ext cx="51814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3300"/>
                </a:solidFill>
                <a:latin typeface="Times New Roman"/>
              </a:rPr>
              <a:t>La super protection de tes parents t’ennu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791320"/>
            <a:ext cx="48006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Ils n’ont pas de parent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191120" cy="4114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230800" y="1523880"/>
            <a:ext cx="3913200" cy="5334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43200" y="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3300"/>
                </a:solidFill>
                <a:latin typeface="Times New Roman"/>
              </a:rPr>
              <a:t>Ca t’ennuie d’avoir toujours les memes jeu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5388120"/>
            <a:ext cx="35053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Ils n’ont pas le choix 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3581280" cy="3733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34120" y="2457360"/>
            <a:ext cx="3809880" cy="4400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19520" y="333360"/>
            <a:ext cx="632448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On t’a acheté des “Adidas” et tu voulais des “Nike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5388120"/>
            <a:ext cx="4572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Ils n’ont que ce modele 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3941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267080" y="3359160"/>
            <a:ext cx="4953240" cy="3498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181480" y="0"/>
            <a:ext cx="3733920" cy="24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Ca t’ennuie quand on t’envoie te coucher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4581360"/>
            <a:ext cx="36576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3300"/>
                </a:solidFill>
                <a:latin typeface="Times New Roman"/>
              </a:rPr>
              <a:t>Eux, ne voudraient jamais se réveiller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19320" y="1371600"/>
            <a:ext cx="7010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3300"/>
                </a:solidFill>
                <a:latin typeface="Times New Roman"/>
              </a:rPr>
              <a:t>Apres cela si tu as toujours quelque chose qui t’ennuie…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3:26:55Z</dcterms:created>
  <dc:creator>José Neto</dc:creator>
  <dc:description/>
  <dc:language>en-US</dc:language>
  <cp:lastModifiedBy>Uranus</cp:lastModifiedBy>
  <dcterms:modified xsi:type="dcterms:W3CDTF">2006-04-04T09:07:12Z</dcterms:modified>
  <cp:revision>17</cp:revision>
  <dc:subject>Diferenças</dc:subject>
  <dc:title>Estás Chateado?</dc:title>
</cp:coreProperties>
</file>