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jpeg" ContentType="image/jpeg"/>
  <Override PartName="/ppt/media/SarahBrightman-LaCaliffa_-cut.wav" ContentType="audio/x-wav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3DE-4493-4EE0-9CB5-113D3D22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1AA-51DC-4EFA-8EBD-CDD88BA9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49E-C29E-4318-8A36-664FC269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1A5-CEB8-4BC0-99E8-F7046C14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15B-9196-4E1A-9BB9-6A6E7A34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222-4900-40A8-9F00-C1FAD710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6B1-595F-4046-A756-04159246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636-307F-4A1E-ABA3-417262EE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F7A-AB8F-4CC0-BC50-11BAAF8F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924-3B8D-40F4-ADEF-788DE5ED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8F8-C354-478A-8394-07819A0E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A1D-1E4E-4A60-9E01-3C9B2E3C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82AE-0027-4B8D-8224-06ECF5088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SarahBrightman-LaCaliffa_-cut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084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6709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229360"/>
            <a:ext cx="6858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Wait for music to start.   Enjoy the pictures with the mus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Slides will advance automatically every 5 seco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lick or press a key to advance manu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Have Fun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2349360"/>
            <a:ext cx="8458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Japonese Paper Folding Ar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84360" y="620640"/>
            <a:ext cx="38386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RIGAMI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12000">
    <p:fade thruBlk="true"/>
    <p:sndAc>
      <p:stSnd>
        <p:snd r:embed="rId5" name="SarahBrightman-LaCaliffa_-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089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459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3168720" cy="549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68360" y="0"/>
          <a:ext cx="4794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0"/>
                    <a:ext cx="4794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771640" y="6402240"/>
            <a:ext cx="2448000" cy="455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65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11160"/>
            <a:ext cx="9144000" cy="459000"/>
            <a:chOff x="0" y="11160"/>
            <a:chExt cx="9144000" cy="459000"/>
          </a:xfrm>
        </p:grpSpPr>
        <p:sp>
          <p:nvSpPr>
            <p:cNvPr id="71" name=""/>
            <p:cNvSpPr/>
            <p:nvPr/>
          </p:nvSpPr>
          <p:spPr>
            <a:xfrm>
              <a:off x="0" y="11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1160"/>
              <a:ext cx="26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0" y="11160"/>
            <a:ext cx="9144000" cy="459000"/>
            <a:chOff x="0" y="11160"/>
            <a:chExt cx="9144000" cy="459000"/>
          </a:xfrm>
        </p:grpSpPr>
        <p:sp>
          <p:nvSpPr>
            <p:cNvPr id="74" name=""/>
            <p:cNvSpPr/>
            <p:nvPr/>
          </p:nvSpPr>
          <p:spPr>
            <a:xfrm>
              <a:off x="0" y="11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1160"/>
              <a:ext cx="26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0" y="11160"/>
            <a:ext cx="9144000" cy="459000"/>
            <a:chOff x="0" y="11160"/>
            <a:chExt cx="9144000" cy="459000"/>
          </a:xfrm>
        </p:grpSpPr>
        <p:sp>
          <p:nvSpPr>
            <p:cNvPr id="77" name=""/>
            <p:cNvSpPr/>
            <p:nvPr/>
          </p:nvSpPr>
          <p:spPr>
            <a:xfrm>
              <a:off x="0" y="11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1160"/>
              <a:ext cx="26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46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2757600" cy="455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4304" r="0" b="0"/>
          <a:stretch/>
        </p:blipFill>
        <p:spPr>
          <a:xfrm>
            <a:off x="2340000" y="0"/>
            <a:ext cx="53085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08720" y="6200640"/>
            <a:ext cx="2303280" cy="657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0" b="5956"/>
          <a:stretch/>
        </p:blipFill>
        <p:spPr>
          <a:xfrm>
            <a:off x="0" y="228600"/>
            <a:ext cx="9144000" cy="6311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80000" y="6134040"/>
            <a:ext cx="2376720" cy="723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65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4191120"/>
            <a:ext cx="58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5410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Comic Sans MS"/>
              </a:rPr>
              <a:t>You can wait for music to end, or…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Comic Sans MS"/>
              </a:rPr>
              <a:t>Press Esc to end the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Comic Sans MS"/>
              </a:rPr>
              <a:t>Hope you enjoyed the show and had fun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1280" y="4365720"/>
            <a:ext cx="27144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En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95640" y="404640"/>
            <a:ext cx="4824360" cy="35514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22:23:33Z</dcterms:created>
  <dc:creator>*</dc:creator>
  <dc:description>modificado por LT:substitui quase todas as fotos, inseri som e animação, modifiquei o primeiro e último slide.</dc:description>
  <dc:language>en-US</dc:language>
  <cp:lastModifiedBy>Lu</cp:lastModifiedBy>
  <dcterms:modified xsi:type="dcterms:W3CDTF">2005-11-25T05:00:48Z</dcterms:modified>
  <cp:revision>9</cp:revision>
  <dc:subject>Japonese Paper Folding Art</dc:subject>
  <dc:title>Origami</dc:title>
</cp:coreProperties>
</file>