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SarahBrightman-LaCaliffa_-cut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F18-EAB0-467D-A701-054A0154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21B-87F8-4093-A333-58C01B9F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881-CD6E-46C1-ADC7-2A10864B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423-F59A-4AF4-8ECE-B97702A2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273-EF41-489E-A202-B993D6BA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CB7-84F9-4C13-A9F8-0D946551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2F9-042C-4836-B664-E1607145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079-DB7B-4C07-A9C5-779F3C09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018-BC43-4B03-A5A5-F75B37E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394-9084-4F7B-B9BD-F82986B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727-0D21-4F85-AA9C-E75CCF1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EA2-A087-4D57-85AF-D3A0836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DE5E-5A01-45E8-8565-52A63245B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SarahBrightman-LaCaliffa_-cut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084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6709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229360"/>
            <a:ext cx="6858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Wait for music to start.   Enjoy the pictures with the mus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Slides will advance automatically every 5 seco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lick or press a key to advance manu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Have Fun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349360"/>
            <a:ext cx="8458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Japonese Paper Folding Ar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360" y="620640"/>
            <a:ext cx="38386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RIGAMI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2000">
    <p:fade thruBlk="true"/>
    <p:sndAc>
      <p:stSnd>
        <p:snd r:embed="rId5" name="SarahBrightman-LaCaliffa_-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089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459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3168720" cy="54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68360" y="0"/>
          <a:ext cx="4794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0"/>
                    <a:ext cx="4794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6402240"/>
            <a:ext cx="2448000" cy="45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65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71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74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77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46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2757600" cy="45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4304" r="0" b="0"/>
          <a:stretch/>
        </p:blipFill>
        <p:spPr>
          <a:xfrm>
            <a:off x="2340000" y="0"/>
            <a:ext cx="53085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08720" y="6200640"/>
            <a:ext cx="2303280" cy="65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5956"/>
          <a:stretch/>
        </p:blipFill>
        <p:spPr>
          <a:xfrm>
            <a:off x="0" y="228600"/>
            <a:ext cx="9144000" cy="631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80000" y="6134040"/>
            <a:ext cx="2376720" cy="723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65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4191120"/>
            <a:ext cx="58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5410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You can wait for music to end, or…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Press Esc to end the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Hope you enjoyed the show and had fun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4365720"/>
            <a:ext cx="27144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5514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22:23:33Z</dcterms:created>
  <dc:creator>*</dc:creator>
  <dc:description>modificado por LT:substitui quase todas as fotos, inseri som e animação, modifiquei o primeiro e último slide.</dc:description>
  <dc:language>en-US</dc:language>
  <cp:lastModifiedBy>Lu</cp:lastModifiedBy>
  <dcterms:modified xsi:type="dcterms:W3CDTF">2005-11-25T05:00:48Z</dcterms:modified>
  <cp:revision>9</cp:revision>
  <dc:subject>Japonese Paper Folding Art</dc:subject>
  <dc:title>Origami</dc:title>
</cp:coreProperties>
</file>